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1005-89B0-4E50-A57C-BFB4423D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0A35-DEEF-4C8F-9CE7-6D03129201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EFF7-851D-4394-9EF6-28E114F2C9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8044-E842-46CA-92D9-AD14E92C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710F-084A-473D-A73C-6580749E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6BEC-A769-4CCA-9F0C-C3D520BA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E32F-ADA2-443F-949B-FE2D76C8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D82A-6CFF-4706-B18C-7F7AE400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1636-0FFF-44C8-A64E-A7EF59A9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045A-30C6-4655-9C2B-D09B2244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52D7-FA7F-436D-8726-D35B69CB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D6F0-334C-4F12-AA12-30EE1FD8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86BE-FFDD-4968-A319-00F34489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EDD9-0050-4989-8F54-9C530C70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AA1F-E9F4-4013-A59A-3D2805E6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6566-127E-445E-A228-D14F8979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593C-D76D-4AF9-9A3D-90A98CD1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B8C-082A-4667-A994-94C9C24E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FC80-0851-4E01-BFD9-58BE018F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A563-A2B5-41F0-86EA-0DF85D14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863D-6C02-425A-B9D1-22FBAB14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9A68-6BB6-401F-A2BE-C6BC463A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B9F0-3158-4C74-8F33-467D057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52FD-192B-4E3F-A157-1B1D4C46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FF41-DBBB-4803-BF2B-A19AF76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CDB4-2CCE-4FE2-BD29-80351ED9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AD199-7BEA-426B-959C-DA10D7A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4F24-1817-4D66-B28C-9BA71F6D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F1DA-61B8-4A9B-85A1-565A7E4D46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C42-9A40-4B67-8F56-B61B8F009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2320" y="2361960"/>
            <a:ext cx="57909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ngravers MT"/>
              </a:rPr>
              <a:t>Business Environ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8153280" y="590544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Study: 7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66320" y="228564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illette Global Product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901A-FB98-4AB8-8920-BBE4F9462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175248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Study: 8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1198-9626-4C68-993D-2D4CE53A75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6212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ifts in the Cultur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Study: 9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EBB4-5826-4034-B405-9C2DB7944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ord’s world Car'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e Study: 1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7374-9360-4FD7-B6D6-A5EA8524E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6212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st Justified 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1C4C-0EE8-4E0F-9BA5-49E08A2144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8960" y="2967120"/>
            <a:ext cx="701172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898640" cy="21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2353-1DC5-46CF-AC31-A740E6AFA1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. NEELAMEGA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.A., M.Phil., M.B.A., A.M.T., MIMA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ior Lectur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ool of Commerce and Business Administr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ulty of Science and Humanit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RM Univers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mil Nadu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RINDA PUBLICATIONS (P) LT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HI - 110 09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ww.vrindaindia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003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8153280" y="590544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BD36-E288-43B2-8F1B-B0A6D9CC10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4960" y="380880"/>
            <a:ext cx="5105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HAPTER   53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F4EA-9085-4043-8CC7-14911ED1CA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e Study: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tional Basketball Associ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7883-35A3-4EF0-A65A-5E3F6ADBD0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e Study: 2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bli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Study: 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CEAA-EAF0-4BE7-B637-1D139EEAFE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43000" y="1523880"/>
            <a:ext cx="74674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hilip Morris’ Troubl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BC64-D31D-46CE-A216-CA2F0DB6BD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761760"/>
            <a:ext cx="6933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Study: 4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psi’s Burma Connec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1007-4873-4C47-8577-F4228E83B5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09480" y="838080"/>
            <a:ext cx="7086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Study: 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ational Engineering Limite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Study: 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80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Boundary Electronic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2FE2-78E8-4514-A5C4-C40DA343B7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6:58:02Z</dcterms:created>
  <dc:creator>ADTW DEPARTMENT</dc:creator>
  <dc:description/>
  <dc:language>en-US</dc:language>
  <cp:lastModifiedBy>abc</cp:lastModifiedBy>
  <dcterms:modified xsi:type="dcterms:W3CDTF">2010-07-23T07:42:00Z</dcterms:modified>
  <cp:revision>581</cp:revision>
  <dc:subject/>
  <dc:title>NEELA</dc:title>
</cp:coreProperties>
</file>